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entury Schoolbook"/>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ECCE1D9-5D57-4C4C-8629-AA2374D2564A}" type="datetime">
              <a:rPr b="0" lang="en-US" sz="1200" spc="-1" strike="noStrike">
                <a:solidFill>
                  <a:srgbClr val="000000"/>
                </a:solidFill>
                <a:latin typeface="Century Schoolbook"/>
              </a:rPr>
              <a:t>07/30/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829720"/>
            <a:ext cx="29718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829720"/>
            <a:ext cx="29718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entury Schoolbook"/>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DEC8188-DC80-437D-8657-DDBCE3133C67}" type="slidenum">
              <a:rPr b="0" lang="en-US" sz="1200" spc="-1" strike="noStrike">
                <a:solidFill>
                  <a:srgbClr val="000000"/>
                </a:solidFill>
                <a:latin typeface="Century School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04840" y="696960"/>
            <a:ext cx="4648320" cy="3486240"/>
          </a:xfrm>
          <a:prstGeom prst="rect">
            <a:avLst/>
          </a:prstGeom>
          <a:ln w="0">
            <a:noFill/>
          </a:ln>
        </p:spPr>
      </p:sp>
      <p:sp>
        <p:nvSpPr>
          <p:cNvPr id="392"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get an inventory print out two ways. Click on the Back office tab and then inventory to the left or click the Reports tab and the library reports to the lef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04840" y="696960"/>
            <a:ext cx="4648320" cy="3486240"/>
          </a:xfrm>
          <a:prstGeom prst="rect">
            <a:avLst/>
          </a:prstGeom>
          <a:ln w="0">
            <a:noFill/>
          </a:ln>
        </p:spPr>
      </p:sp>
      <p:sp>
        <p:nvSpPr>
          <p:cNvPr id="39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you click on back office and inventory, click on “view in-progress inventory and completed inventory”. By default the screen will automatically pull up in progress inventory.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04840" y="696960"/>
            <a:ext cx="4648320" cy="3486240"/>
          </a:xfrm>
          <a:prstGeom prst="rect">
            <a:avLst/>
          </a:prstGeom>
          <a:ln w="0">
            <a:noFill/>
          </a:ln>
        </p:spPr>
      </p:sp>
      <p:sp>
        <p:nvSpPr>
          <p:cNvPr id="396"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run a completed inventory report, click the “completed” sub tab next to “in progres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B7618-E4EA-486E-BA61-3D6668650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3CA7D-E1BD-44F6-B6B6-C723AF996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AC800-4D3C-4648-A0A0-AEBD97C61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228CF-2780-4E29-96EB-3011EA8B8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32D6D-229A-4E1F-8FD6-E6BA53331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375E4-6B01-495D-B27B-4EF31509B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FEC8A-5ED9-4E21-90A4-38CA666AC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FA257-E470-42DC-93B2-F9CC9C80D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E597C-C281-4134-8DB5-9A7E4A1BE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3793F-E648-4711-B216-8AE87276E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B1BBE-B855-4DCC-A3F4-125F2D347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EE2F3-5CE1-48C5-B665-F17C96AC5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56778-1F26-49B8-9333-891E14A3D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4DBAB-2ED0-4721-91BE-BCD10F12D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B7C70-BF35-4F36-9910-8C06B8FD3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DB836-5505-4B63-A25F-DDABB0FDC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0268A-164C-4AC0-BFC0-8369A3187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6F6C2FD-2B2A-47B2-80FF-E843E3F981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C7BCB24-125B-4629-86B8-91A235A294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4CD4C53-7003-4C27-9BE3-335469F798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FCCA7E5-F533-4007-8F3F-D02CDBDD5B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F91877-D82F-4DA5-8C58-C195098927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22BFB-4F06-4D5A-9323-F8B38436A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F3C0B58-3498-4C82-B298-C90113BB3D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BE39F2-8F81-42E6-A035-B57998BF6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B94C8F-0907-4BB0-864E-58175206A5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36D99C6-1436-47F5-81C3-A9F6B7BB37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09C0EFA-48E2-4F3D-A49D-D5AD5E5E3F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0020113-86D5-4E2D-A9C6-40AF258268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540E9AE-885C-415E-BE7B-42A369C571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18D1EE-4F25-4F1E-ADFF-C1D402D4F4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00C0F6-E860-4D40-91F7-A89F4E1C63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FD1E3-9D88-4702-A12B-2B75DD673F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FAECD-2902-4A10-B321-9155D2BDA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B2B535-3013-4695-A518-5B9EF7B08C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96EA23-3D12-4B02-BF80-C51A227917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02DB0E-944E-4840-9FEA-8102D234AD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E20056-BC85-4792-BD31-65009B176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8CE5E2-66A3-4A07-89A9-CFC69CFD1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48DA16-14EE-4C17-829E-823503B28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8A3CCC-A151-43A4-9A3F-2C0D97AF52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3A73B9-6E52-4E41-9ECA-383503059A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22B75F-1C2F-41B8-9279-2CA9E4DE14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71ED124-0B9C-4377-9090-6B80DBEC4B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AD8CA-BE08-474D-A0FC-EBDBFE53C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EB83857-95D3-4224-884B-FFB6B286FA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16851F1-E274-4015-B40B-34F42C2707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1CA93D0-3C9C-488D-859F-F7E8FD188B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A562A67-1900-43BA-AFE3-4B392498D9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1F0E6D4-B7AA-4948-8A8A-75AF0820B5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E485D8F-47E2-47C6-A70C-65C9D387B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7A2E51-EB46-4FDD-990C-AC58E1A0A9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053064-1CA1-436D-80B6-5C4EB96379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2EC37F2-5BA0-4FBC-81F9-B5DC69E2B8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4C87656-2688-4D93-B0C1-099CFE66C9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ADB24-DB91-4310-9407-7B6BD64A8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6630782-975F-44EA-9789-BD74F32F4A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3006DEB-CE4E-4ABD-8CE8-EDE7FC3D36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CE4C10A-2003-4986-930C-C4C71EC406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1654B44-BAAA-49E8-991C-F5257BC621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FBCFA59-34EE-4BDC-95E4-D206D2E3B9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BF914BF-76E7-4CA0-A511-76761883C0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35DFEFF-0DE6-4157-9590-D478C1B286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410DF3D-F9DA-4F09-9B74-37B956275E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7F4C0DD-CA5C-487E-9E42-2C2273D631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D0722F9-B239-46E8-8AC4-8307BE15F0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556A4-5CA9-4A18-A514-41D28BA5E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1D359D2-8FD1-4175-8DC9-4A00A6A3AE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3C0C7A9-F9E2-4D14-9211-B5BFF56E37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5CFBFD9-A9DB-4E0D-BD08-EA5E459DB5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371EFD8-CB6C-4E81-B2A7-ECFD5BE4E2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A3CBE13-4908-4330-BF71-00DE0A6F35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A5A4B6F-6CD7-4D9A-9EBE-1D83D3A099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42C15BB-162C-4473-B70F-E78BDA7CD7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F37F1DB-3DD9-43EA-B9A7-A708BE24F0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877B054-0C80-4181-A98C-DDAD801944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28C0750-8D9F-4120-B047-95C474E17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168D8-CB24-415D-9087-BC4D18937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5CADE31-F917-4D3E-B27F-976A80EB6D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9D21BF7-60B3-4AE3-8C0F-BF7784B57C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4905C57-EA94-45A7-A2EB-C6E761D651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0B12031-0FDC-4F45-86FF-B08E784E21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FDD45F4-DB66-40BA-AA9C-76A2BE589F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519F8-86E9-47BF-8042-9EB88132D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F16E2-2648-4F8E-B4F1-31A271283CA4}"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3C49D-689C-4114-8299-C0395F5EA64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34D3A-F122-4CD5-BB14-EA63C390C071}"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94A81-1489-4972-86DC-CE7DF94C7AF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56B67-A658-494E-BBC5-5B93C82F9F66}"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BD56AC-A73E-48B1-8A90-7F6E8E8BECB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95BBF9-314A-4F16-A5BD-7558853F481E}" type="datetime">
              <a:rPr b="0" lang="en-US" sz="1200" spc="-1" strike="noStrike">
                <a:solidFill>
                  <a:srgbClr val="fff39d"/>
                </a:solidFill>
                <a:latin typeface="Century Schoolbook"/>
              </a:rPr>
              <a:t>07/30/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32D66-3E85-4291-86B1-018128DC3AD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B58B6-D375-40F0-96EA-97CACD50004C}"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04211-FB3A-4EC6-97F0-ED866610C89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A829E-2A58-429A-8203-FE765277494D}"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1E7875-6AB0-40F6-B05A-08A8E41B0AC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D6AA3-D89D-4B87-B3BB-090FABDCAB79}"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20685-C180-4947-BD91-91521A6D85F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Schoolbook"/>
              </a:rPr>
              <a:t>Section Four: Reports and Utilities</a:t>
            </a:r>
            <a:br>
              <a:rPr sz="3000"/>
            </a:br>
            <a:endParaRPr b="0" lang="en-US" sz="3000" spc="-1" strike="noStrike">
              <a:solidFill>
                <a:srgbClr val="575f6d"/>
              </a:solidFill>
              <a:latin typeface="Century Schoolbook"/>
            </a:endParaRPr>
          </a:p>
        </p:txBody>
      </p:sp>
      <p:pic>
        <p:nvPicPr>
          <p:cNvPr id="359" name="Picture 5" descr="banner4_103112"/>
          <p:cNvPicPr/>
          <p:nvPr/>
        </p:nvPicPr>
        <p:blipFill>
          <a:blip r:embed="rId1"/>
          <a:stretch/>
        </p:blipFill>
        <p:spPr>
          <a:xfrm>
            <a:off x="923760" y="1665360"/>
            <a:ext cx="7000920" cy="3552840"/>
          </a:xfrm>
          <a:prstGeom prst="rect">
            <a:avLst/>
          </a:prstGeom>
          <a:ln w="0">
            <a:noFill/>
          </a:ln>
        </p:spPr>
      </p:pic>
      <p:sp>
        <p:nvSpPr>
          <p:cNvPr id="360" name="Text Box 6"/>
          <p:cNvSpPr/>
          <p:nvPr/>
        </p:nvSpPr>
        <p:spPr>
          <a:xfrm>
            <a:off x="3535200" y="5692680"/>
            <a:ext cx="1803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verne Proc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T 747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ing 2013</a:t>
            </a:r>
            <a:endParaRPr b="0" lang="en-US" sz="1800" spc="-1" strike="noStrike">
              <a:solidFill>
                <a:srgbClr val="000000"/>
              </a:solidFill>
              <a:latin typeface="Arial"/>
            </a:endParaRPr>
          </a:p>
        </p:txBody>
      </p:sp>
      <p:sp>
        <p:nvSpPr>
          <p:cNvPr id="361" name="Rectangle 7"/>
          <p:cNvSpPr/>
          <p:nvPr/>
        </p:nvSpPr>
        <p:spPr>
          <a:xfrm>
            <a:off x="4042080" y="4988880"/>
            <a:ext cx="10645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013 Follett </a:t>
            </a:r>
            <a:endParaRPr b="0" lang="en-US" sz="1200" spc="-1" strike="noStrike">
              <a:solidFill>
                <a:srgbClr val="000000"/>
              </a:solidFill>
              <a:latin typeface="Arial"/>
            </a:endParaRPr>
          </a:p>
        </p:txBody>
      </p:sp>
      <p:pic>
        <p:nvPicPr>
          <p:cNvPr id="362" name="Inventory Report_LLP2.pp256-0" descr=""/>
          <p:cNvPicPr/>
          <p:nvPr/>
        </p:nvPicPr>
        <p:blipFill>
          <a:blip r:embed="rId2"/>
          <a:stretch/>
        </p:blipFill>
        <p:spPr>
          <a:xfrm>
            <a:off x="8648640" y="6362640"/>
            <a:ext cx="343080" cy="3430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64920" y="-39420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Schoolbook"/>
              </a:rPr>
              <a:t>Inventory Reports</a:t>
            </a:r>
            <a:endParaRPr b="0" lang="en-US" sz="3000" spc="-1" strike="noStrike">
              <a:solidFill>
                <a:srgbClr val="575f6d"/>
              </a:solidFill>
              <a:latin typeface="Century Schoolbook"/>
            </a:endParaRPr>
          </a:p>
        </p:txBody>
      </p:sp>
      <p:pic>
        <p:nvPicPr>
          <p:cNvPr id="364" name="Picture 4" descr=""/>
          <p:cNvPicPr/>
          <p:nvPr/>
        </p:nvPicPr>
        <p:blipFill>
          <a:blip r:embed="rId1"/>
          <a:srcRect l="18367" t="21889" r="6505" b="26126"/>
          <a:stretch/>
        </p:blipFill>
        <p:spPr>
          <a:xfrm>
            <a:off x="665280" y="1095480"/>
            <a:ext cx="7697520" cy="4124160"/>
          </a:xfrm>
          <a:prstGeom prst="rect">
            <a:avLst/>
          </a:prstGeom>
          <a:ln w="0">
            <a:noFill/>
          </a:ln>
        </p:spPr>
      </p:pic>
      <p:pic>
        <p:nvPicPr>
          <p:cNvPr id="365" name="Inventory Report_LLP2.pp257-0" descr=""/>
          <p:cNvPicPr/>
          <p:nvPr/>
        </p:nvPicPr>
        <p:blipFill>
          <a:blip r:embed="rId2"/>
          <a:stretch/>
        </p:blipFill>
        <p:spPr>
          <a:xfrm>
            <a:off x="8648640" y="6362640"/>
            <a:ext cx="343080" cy="34308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3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 </a:t>
            </a:r>
            <a:r>
              <a:rPr b="0" lang="en-US" sz="4400" spc="-1" strike="noStrike">
                <a:solidFill>
                  <a:srgbClr val="000000"/>
                </a:solidFill>
                <a:latin typeface="Century Schoolbook"/>
              </a:rPr>
              <a:t>Inventory</a:t>
            </a:r>
            <a:endParaRPr b="0" lang="en-US" sz="4400" spc="-1" strike="noStrike">
              <a:solidFill>
                <a:srgbClr val="575f6d"/>
              </a:solidFill>
              <a:latin typeface="Century Schoolbook"/>
            </a:endParaRPr>
          </a:p>
        </p:txBody>
      </p:sp>
      <p:sp>
        <p:nvSpPr>
          <p:cNvPr id="367" name="Rectangle 4"/>
          <p:cNvSpPr/>
          <p:nvPr/>
        </p:nvSpPr>
        <p:spPr>
          <a:xfrm>
            <a:off x="299880" y="1684440"/>
            <a:ext cx="8312400" cy="551124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tiny allows you to generate in-        </a:t>
            </a:r>
            <a:endParaRPr b="0" lang="en-US" sz="36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gress inventory reports and      </a:t>
            </a:r>
            <a:endParaRPr b="0" lang="en-US" sz="36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mpleted inventory reports. </a:t>
            </a:r>
            <a:endParaRPr b="0" lang="en-US" sz="3600" spc="-1" strike="noStrike">
              <a:solidFill>
                <a:srgbClr val="000000"/>
              </a:solidFill>
              <a:latin typeface="Arial"/>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se reports show items accounted </a:t>
            </a:r>
            <a:endParaRPr b="0" lang="en-US" sz="36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or in the inventory and identify    </a:t>
            </a:r>
            <a:endParaRPr b="0" lang="en-US" sz="36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issing and misshelved library    </a:t>
            </a:r>
            <a:endParaRPr b="0" lang="en-US" sz="36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aterials. </a:t>
            </a:r>
            <a:endParaRPr b="0" lang="en-US" sz="3600" spc="-1" strike="noStrike">
              <a:solidFill>
                <a:srgbClr val="000000"/>
              </a:solidFill>
              <a:latin typeface="Arial"/>
            </a:endParaRPr>
          </a:p>
        </p:txBody>
      </p:sp>
      <p:pic>
        <p:nvPicPr>
          <p:cNvPr id="368" name="Inventory Report_LLP2.pp260-0" descr=""/>
          <p:cNvPicPr/>
          <p:nvPr/>
        </p:nvPicPr>
        <p:blipFill>
          <a:blip r:embed="rId1"/>
          <a:stretch/>
        </p:blipFill>
        <p:spPr>
          <a:xfrm>
            <a:off x="8648640" y="6362640"/>
            <a:ext cx="343080" cy="34308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3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4" descr=""/>
          <p:cNvPicPr/>
          <p:nvPr/>
        </p:nvPicPr>
        <p:blipFill>
          <a:blip r:embed="rId1"/>
          <a:srcRect l="0" t="15484" r="0" b="41797"/>
          <a:stretch/>
        </p:blipFill>
        <p:spPr>
          <a:xfrm>
            <a:off x="282600" y="353880"/>
            <a:ext cx="5995800" cy="3322800"/>
          </a:xfrm>
          <a:prstGeom prst="rect">
            <a:avLst/>
          </a:prstGeom>
          <a:ln w="0">
            <a:noFill/>
          </a:ln>
        </p:spPr>
      </p:pic>
      <p:sp>
        <p:nvSpPr>
          <p:cNvPr id="370" name="Text Box 5"/>
          <p:cNvSpPr/>
          <p:nvPr/>
        </p:nvSpPr>
        <p:spPr>
          <a:xfrm>
            <a:off x="6278400" y="860400"/>
            <a:ext cx="248292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Office Tab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Inventory</a:t>
            </a:r>
            <a:endParaRPr b="0" lang="en-US" sz="1800" spc="-1" strike="noStrike">
              <a:solidFill>
                <a:srgbClr val="000000"/>
              </a:solidFill>
              <a:latin typeface="Arial"/>
            </a:endParaRPr>
          </a:p>
        </p:txBody>
      </p:sp>
      <p:pic>
        <p:nvPicPr>
          <p:cNvPr id="371" name="Picture 6" descr=""/>
          <p:cNvPicPr/>
          <p:nvPr/>
        </p:nvPicPr>
        <p:blipFill>
          <a:blip r:embed="rId2"/>
          <a:srcRect l="0" t="15171" r="33201" b="6466"/>
          <a:stretch/>
        </p:blipFill>
        <p:spPr>
          <a:xfrm>
            <a:off x="2892600" y="3676680"/>
            <a:ext cx="5249520" cy="2990880"/>
          </a:xfrm>
          <a:prstGeom prst="rect">
            <a:avLst/>
          </a:prstGeom>
          <a:ln w="0">
            <a:noFill/>
          </a:ln>
        </p:spPr>
      </p:pic>
      <p:sp>
        <p:nvSpPr>
          <p:cNvPr id="372" name="Text Box 7"/>
          <p:cNvSpPr/>
          <p:nvPr/>
        </p:nvSpPr>
        <p:spPr>
          <a:xfrm>
            <a:off x="282600" y="4284720"/>
            <a:ext cx="28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Reports Tab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brary Reports</a:t>
            </a:r>
            <a:endParaRPr b="0" lang="en-US" sz="1800" spc="-1" strike="noStrike">
              <a:solidFill>
                <a:srgbClr val="000000"/>
              </a:solidFill>
              <a:latin typeface="Arial"/>
            </a:endParaRPr>
          </a:p>
        </p:txBody>
      </p:sp>
      <p:sp>
        <p:nvSpPr>
          <p:cNvPr id="373" name="Rectangle 8"/>
          <p:cNvSpPr/>
          <p:nvPr/>
        </p:nvSpPr>
        <p:spPr>
          <a:xfrm>
            <a:off x="1747800" y="719280"/>
            <a:ext cx="453960" cy="282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4" name="Rectangle 9"/>
          <p:cNvSpPr/>
          <p:nvPr/>
        </p:nvSpPr>
        <p:spPr>
          <a:xfrm>
            <a:off x="282600" y="3014640"/>
            <a:ext cx="530280" cy="174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5" name="Rectangle 10"/>
          <p:cNvSpPr/>
          <p:nvPr/>
        </p:nvSpPr>
        <p:spPr>
          <a:xfrm>
            <a:off x="2892600" y="4118040"/>
            <a:ext cx="574560" cy="174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6" name="Rectangle 11"/>
          <p:cNvSpPr/>
          <p:nvPr/>
        </p:nvSpPr>
        <p:spPr>
          <a:xfrm>
            <a:off x="4559400" y="3855960"/>
            <a:ext cx="398520" cy="174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7" name="Rectangle 12"/>
          <p:cNvSpPr/>
          <p:nvPr/>
        </p:nvSpPr>
        <p:spPr>
          <a:xfrm>
            <a:off x="812880" y="1324080"/>
            <a:ext cx="1068480" cy="353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8" name="Rectangle 13"/>
          <p:cNvSpPr/>
          <p:nvPr/>
        </p:nvSpPr>
        <p:spPr>
          <a:xfrm>
            <a:off x="3646440" y="5703840"/>
            <a:ext cx="1068480" cy="354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79" name="Inventory Report_LLP2.pp277-0" descr=""/>
          <p:cNvPicPr/>
          <p:nvPr/>
        </p:nvPicPr>
        <p:blipFill>
          <a:blip r:embed="rId3"/>
          <a:stretch/>
        </p:blipFill>
        <p:spPr>
          <a:xfrm>
            <a:off x="8648640" y="6362640"/>
            <a:ext cx="343080" cy="3430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3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088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unning In-Progress Inventory Reports</a:t>
            </a:r>
            <a:endParaRPr b="0" lang="en-US" sz="3000" spc="-1" strike="noStrike">
              <a:solidFill>
                <a:srgbClr val="575f6d"/>
              </a:solidFill>
              <a:latin typeface="Century Schoolbook"/>
            </a:endParaRPr>
          </a:p>
        </p:txBody>
      </p:sp>
      <p:pic>
        <p:nvPicPr>
          <p:cNvPr id="381" name="Picture 3" descr=""/>
          <p:cNvPicPr/>
          <p:nvPr/>
        </p:nvPicPr>
        <p:blipFill>
          <a:blip r:embed="rId1"/>
          <a:srcRect l="0" t="15894" r="0" b="4561"/>
          <a:stretch/>
        </p:blipFill>
        <p:spPr>
          <a:xfrm>
            <a:off x="3008160" y="3759120"/>
            <a:ext cx="4916520" cy="2867040"/>
          </a:xfrm>
          <a:prstGeom prst="rect">
            <a:avLst/>
          </a:prstGeom>
          <a:ln w="0">
            <a:noFill/>
          </a:ln>
        </p:spPr>
      </p:pic>
      <p:pic>
        <p:nvPicPr>
          <p:cNvPr id="382" name="Picture 4" descr=""/>
          <p:cNvPicPr/>
          <p:nvPr/>
        </p:nvPicPr>
        <p:blipFill>
          <a:blip r:embed="rId2"/>
          <a:srcRect l="0" t="15484" r="0" b="41653"/>
          <a:stretch/>
        </p:blipFill>
        <p:spPr>
          <a:xfrm>
            <a:off x="457200" y="1122480"/>
            <a:ext cx="4754520" cy="2636640"/>
          </a:xfrm>
          <a:prstGeom prst="rect">
            <a:avLst/>
          </a:prstGeom>
          <a:ln w="0">
            <a:noFill/>
          </a:ln>
        </p:spPr>
      </p:pic>
      <p:sp>
        <p:nvSpPr>
          <p:cNvPr id="383" name="Rectangle 7"/>
          <p:cNvSpPr/>
          <p:nvPr/>
        </p:nvSpPr>
        <p:spPr>
          <a:xfrm>
            <a:off x="812880" y="1771560"/>
            <a:ext cx="1068480" cy="540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4" name="Line 8"/>
          <p:cNvSpPr/>
          <p:nvPr/>
        </p:nvSpPr>
        <p:spPr>
          <a:xfrm flipH="1">
            <a:off x="7219800" y="2784600"/>
            <a:ext cx="704880" cy="1216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85" name="Inventory Report_LLP2.pp278-0" descr=""/>
          <p:cNvPicPr/>
          <p:nvPr/>
        </p:nvPicPr>
        <p:blipFill>
          <a:blip r:embed="rId3"/>
          <a:stretch/>
        </p:blipFill>
        <p:spPr>
          <a:xfrm>
            <a:off x="8648640" y="6362640"/>
            <a:ext cx="343080" cy="3430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3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36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unning Completed Inventory Reports</a:t>
            </a:r>
            <a:endParaRPr b="0" lang="en-US" sz="3000" spc="-1" strike="noStrike">
              <a:solidFill>
                <a:srgbClr val="575f6d"/>
              </a:solidFill>
              <a:latin typeface="Century Schoolbook"/>
            </a:endParaRPr>
          </a:p>
        </p:txBody>
      </p:sp>
      <p:pic>
        <p:nvPicPr>
          <p:cNvPr id="387" name="Picture 4" descr=""/>
          <p:cNvPicPr/>
          <p:nvPr/>
        </p:nvPicPr>
        <p:blipFill>
          <a:blip r:embed="rId1"/>
          <a:srcRect l="0" t="15894" r="0" b="4561"/>
          <a:stretch/>
        </p:blipFill>
        <p:spPr>
          <a:xfrm>
            <a:off x="457200" y="1143000"/>
            <a:ext cx="7467480" cy="4952880"/>
          </a:xfrm>
          <a:prstGeom prst="rect">
            <a:avLst/>
          </a:prstGeom>
          <a:ln w="0">
            <a:noFill/>
          </a:ln>
        </p:spPr>
      </p:pic>
      <p:sp>
        <p:nvSpPr>
          <p:cNvPr id="388" name="Line 5"/>
          <p:cNvSpPr/>
          <p:nvPr/>
        </p:nvSpPr>
        <p:spPr>
          <a:xfrm flipH="1">
            <a:off x="7496280" y="534960"/>
            <a:ext cx="704880" cy="1216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Rectangle 7"/>
          <p:cNvSpPr/>
          <p:nvPr/>
        </p:nvSpPr>
        <p:spPr>
          <a:xfrm>
            <a:off x="6997680" y="1751040"/>
            <a:ext cx="498600" cy="330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90" name="Inventory Report_LLP2.pp279-0" descr=""/>
          <p:cNvPicPr/>
          <p:nvPr/>
        </p:nvPicPr>
        <p:blipFill>
          <a:blip r:embed="rId2"/>
          <a:stretch/>
        </p:blipFill>
        <p:spPr>
          <a:xfrm>
            <a:off x="8648640" y="6362640"/>
            <a:ext cx="343080" cy="34308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3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00:50:33Z</dcterms:created>
  <dc:creator>Proctor, Laverne</dc:creator>
  <dc:description/>
  <dc:language>en-US</dc:language>
  <cp:lastModifiedBy>Proctor, Laverne</cp:lastModifiedBy>
  <dcterms:modified xsi:type="dcterms:W3CDTF">2013-03-12T04:36:17Z</dcterms:modified>
  <cp:revision>18</cp:revision>
  <dc:subject/>
  <dc:title>Slide 1</dc:title>
</cp:coreProperties>
</file>